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3264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256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4272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3264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256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38040" y="228600"/>
            <a:ext cx="7342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3264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2560" y="196164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4272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3264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22560" y="3961800"/>
            <a:ext cx="256140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38040" y="228600"/>
            <a:ext cx="73422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19000" y="396180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9000" y="1961640"/>
            <a:ext cx="388188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42720" y="3961800"/>
            <a:ext cx="7954920" cy="18262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906120" cy="457200"/>
          </a:xfrm>
          <a:prstGeom prst="rect">
            <a:avLst/>
          </a:prstGeom>
          <a:solidFill>
            <a:srgbClr val="163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Futura Bold"/>
              </a:rPr>
              <a:t>Click to edit the title text format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1" marL="566640" indent="1969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2" marL="957240" indent="-32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3" marL="247032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4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5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lvl="6" marL="288936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3" name=""/>
          <p:cNvSpPr/>
          <p:nvPr/>
        </p:nvSpPr>
        <p:spPr>
          <a:xfrm>
            <a:off x="1112760" y="6543720"/>
            <a:ext cx="41292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rIns="0" t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B28E-6667-4AD4-BF09-30C432093001}" type="slidenum">
              <a:rPr b="0" lang="en-GB" sz="1200" spc="-1" strike="noStrike">
                <a:solidFill>
                  <a:srgbClr val="ffffff"/>
                </a:solidFill>
                <a:latin typeface="Futura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36600" y="1752480"/>
            <a:ext cx="8667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395520" y="6488280"/>
            <a:ext cx="58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 BookItalic"/>
              </a:rPr>
              <a:t>For learning and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759720" y="5856120"/>
            <a:ext cx="246996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93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98320" y="1447560"/>
            <a:ext cx="6769080" cy="1447560"/>
          </a:xfrm>
          <a:prstGeom prst="rect">
            <a:avLst/>
          </a:prstGeom>
          <a:noFill/>
          <a:ln w="0">
            <a:noFill/>
          </a:ln>
        </p:spPr>
        <p:txBody>
          <a:bodyPr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Futura Bold"/>
              </a:rPr>
              <a:t>Click to edit the title text format</a:t>
            </a:r>
            <a:endParaRPr b="0" lang="en-US" sz="2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45" name=""/>
          <p:cNvSpPr/>
          <p:nvPr/>
        </p:nvSpPr>
        <p:spPr>
          <a:xfrm>
            <a:off x="6094440" y="5715000"/>
            <a:ext cx="30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 BookItalic"/>
              </a:rPr>
              <a:t>For learning and compe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lvl="1" marL="380880"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Garamond"/>
            </a:endParaRPr>
          </a:p>
          <a:p>
            <a:pPr lvl="2" marL="954000" algn="ctr">
              <a:lnSpc>
                <a:spcPct val="90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aramond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Garamond"/>
            </a:endParaRPr>
          </a:p>
          <a:p>
            <a:pPr lvl="3" marL="1371600" indent="870120" algn="ctr">
              <a:spcBef>
                <a:spcPts val="249"/>
              </a:spcBef>
              <a:buClr>
                <a:srgbClr val="000000"/>
              </a:buClr>
              <a:buFont typeface="Futura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4" marL="1828800" indent="831960" algn="ctr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5" marL="1828800" indent="831960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  <a:p>
            <a:pPr lvl="6" marL="1828800" indent="831960">
              <a:spcBef>
                <a:spcPts val="249"/>
              </a:spcBef>
              <a:buClr>
                <a:srgbClr val="000000"/>
              </a:buClr>
              <a:buFont typeface="Futura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Bold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Futu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98320" y="1447560"/>
            <a:ext cx="6769080" cy="1447560"/>
          </a:xfrm>
          <a:prstGeom prst="rect">
            <a:avLst/>
          </a:prstGeom>
          <a:noFill/>
          <a:ln w="0">
            <a:noFill/>
          </a:ln>
        </p:spPr>
        <p:txBody>
          <a:bodyPr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Futura Bold"/>
              </a:rPr>
              <a:t>C</a:t>
            </a:r>
            <a:r>
              <a:rPr b="0" lang="fi-FI" sz="2800" spc="-1" strike="noStrike">
                <a:solidFill>
                  <a:srgbClr val="5f5f5f"/>
                </a:solidFill>
                <a:latin typeface="Futura Bold"/>
              </a:rPr>
              <a:t>ompetence-Based Qualifications in Finland</a:t>
            </a:r>
            <a:endParaRPr b="0" lang="en-US" sz="2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7200" y="2971440"/>
            <a:ext cx="5200560" cy="7621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85" name=""/>
          <p:cNvSpPr/>
          <p:nvPr/>
        </p:nvSpPr>
        <p:spPr>
          <a:xfrm>
            <a:off x="738360" y="5735520"/>
            <a:ext cx="23842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Futura Book"/>
              </a:rPr>
              <a:t>Marketta Saarin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QUALIFICATION COMMITTEE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ach compentence-based qualification is administered either by a national or regional Qualification Committe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embers are representatives of employers, employees, entrepreneurs and teachers in the field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x. 9 members; the majority of members must represent employers, employees and entrepreneur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s many employers and employee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Sit for 3-year period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HE ROLE OF THE QUALIFICATION COMMITTEE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Oversee the organisation  of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ke contracts with educational institutions who then in practice organize and implement the competence test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Verify attainments and sign certificates together with the contract organizations (educational institutions)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ake proposals to develop the whole system and the requirements of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REQUIREMENTS OF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cided by the National Board of Education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Experts from working life and educational institutions draw up the requirements of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fine the professional skills requirements, assessment criteria and the ways and methods of demonstrating skill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fications are divided into modules according to the sets of tasks and core functions of a profession 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ORGANISERS OF TRAINING AND COMPETENCE TEST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ducational institutions organize preparatory training for the competence-based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Educational institutions who want to arrange competence tests need to sign a contract with the Qualification Committee of the appropriate sector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Organisers plan and evaluate the competence tests in close co-operation with experts of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NUMBER OF QUALIFICATION TAKERS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1995-2002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43080" y="1962000"/>
          <a:ext cx="7954920" cy="38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1962000"/>
                    <a:ext cx="7954920" cy="38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HOW QUALIFICATIONS ARE PASSED, 2001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WHOLE QUALIFICATION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56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ONE MODULE OR MORE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27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FAI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17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NUMBER OF QUALIFICATION TAKERS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AT DIFFERENT LEVELS,</a:t>
            </a:r>
            <a:br>
              <a:rPr sz="2400"/>
            </a:b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2001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BASIC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1 2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FURTHER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22 4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61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PECIALIST VOCATION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 4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9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37 000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WAYS TO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9880" y="1828440"/>
            <a:ext cx="8502840" cy="4267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SELF-MOTIVATED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5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APPRENTICESHIP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22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LABOUR MARKET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5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DIRECT ACCESS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ON-THE-JOB TRAINING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  3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OTAL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ESTS OF COMPETENC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ests of competence are arranged at workplaces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Professional skills are demonstrated in practical tasks which can be complemented either orally, in writing or in some other way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A test of competence contains tasks that form a part of a normal working day in a particular work environment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ests of competence are assessed by experts from both working life and the teaching sector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he candidate is considered an equal evaluator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The assessment scale of vocational qualifications ranges from excellent (5) to good (4-3) and satisfactory (2-1)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Futura Book"/>
              </a:rPr>
              <a:t>Further and Specialist Vocational Qualifications are marked with pass/fail</a:t>
            </a:r>
            <a:endParaRPr b="0" lang="en-US" sz="18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Plan for skills demonstrations </a:t>
            </a:r>
            <a:br>
              <a:rPr sz="2400"/>
            </a:br>
            <a:r>
              <a:rPr b="0" lang="fi-FI" sz="1800" spc="-1" strike="noStrike">
                <a:solidFill>
                  <a:srgbClr val="5f5f5f"/>
                </a:solidFill>
                <a:latin typeface="Futura Bold"/>
              </a:rPr>
              <a:t>(Annex to contract of arranging skills demonstrations)</a:t>
            </a:r>
            <a:endParaRPr b="0" lang="en-US" sz="18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87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he organizer of skills demonstrations has to answer to following questions: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demonstrations on a modular basis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demonstrations during preparatory training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re the work places where skills demonstrations are organized equipped to meet the skills requirements defined in the competence-based qualification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Description of the content of skills demonstrations (practical tasks) and the assessment material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re the objects and criteria of assessment based on the competence-based qualification?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Futura Bold"/>
              </a:rPr>
              <a:t>BASIC PRINCIPL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rofessional skills that h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ve been obtained in v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arious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ways</a:t>
            </a:r>
            <a:r>
              <a:rPr b="0" lang="en-GB" sz="2400" spc="-1" strike="noStrike">
                <a:solidFill>
                  <a:srgbClr val="000000"/>
                </a:solidFill>
                <a:latin typeface="Futura Book"/>
              </a:rPr>
              <a:t> independent of education and training may be demonstrated in competence test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THE EVALUATION OF THE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ational evaluation in 1999-2000 focused on the efficiency of the system and on the results given by the system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competence tests were implemented in a variety of ways; some shortcomings came up in the arrangements and in the work of the Qualification Committees.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Both the students and representatives of working life regarded the skills assessed to be relevant.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OECD THEMATIC REVIEW ON ADULT LEARNING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8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ccording to the country report concerning Finland, the competence-based qualification system could provide a model for other countrie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”</a:t>
            </a: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competence-based qualification system is now well established and is highly regarded for giving national currency to vocational qualifications, both at upper and further educational level. The competence-based qualification system enables the accreditation of prior learning and recognition of informal learning, and the qualifications it provides are greatly sought after by employers.”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LEGAL BASI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In the course of the 1990s a new system of competence-based qualifications was developed and designed for the adult population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system came into force in 1994 and competence tests have been arranged since then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system was revised at the beginning of 1999 through an Act (631/1998) and Decree (812/1998)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BACKGROUND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Middle-aged population was lacking formal qualification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Pressure from the social partners: the need to better meet the requirements of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eed to accredit prior learning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Less time used for training – financial savings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Need to improve the quality of adult education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81240" y="260280"/>
            <a:ext cx="4246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LEVELS OF QUALIFICATIONS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Basic skills in the professional field (the same qualification as the young people acquire in three-year programmes in school-based education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Further 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ed worker (basic training + additional studies + three years’ work experience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-290520">
              <a:lnSpc>
                <a:spcPct val="9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Futura Book"/>
              </a:rPr>
              <a:t>Specialist vocational qualificatio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    </a:t>
            </a: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The most demanding tasks in the field (basic vocational training + additional studies +  five years’ work experience)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MAIN PRINCIPLES OF THE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9000"/>
          </a:bodyPr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fications are independent of the way the competences have been acquired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Applicable to self-motivated, labour market, apprenticeship and in-service training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Skills requirements are rooted in working lif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Modular structur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Personal study plan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Entrepreneurship is included in the skill requirement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Close co-operation with the social partners, educational authorities and teachers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-287280">
              <a:lnSpc>
                <a:spcPct val="80000"/>
              </a:lnSpc>
              <a:spcBef>
                <a:spcPts val="125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Futura Book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  <a:p>
            <a:pPr marL="287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8040" y="228240"/>
            <a:ext cx="7342200" cy="111276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Futura Bold"/>
              </a:rPr>
              <a:t>Competence-based Qualifications System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88520" y="1961640"/>
            <a:ext cx="921708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290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Book"/>
            </a:endParaRPr>
          </a:p>
          <a:p>
            <a:pPr marL="29052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utura Book"/>
            </a:endParaRPr>
          </a:p>
        </p:txBody>
      </p:sp>
      <p:sp>
        <p:nvSpPr>
          <p:cNvPr id="99" name=""/>
          <p:cNvSpPr/>
          <p:nvPr/>
        </p:nvSpPr>
        <p:spPr>
          <a:xfrm>
            <a:off x="488880" y="1916280"/>
            <a:ext cx="2158920" cy="1225440"/>
          </a:xfrm>
          <a:prstGeom prst="rect">
            <a:avLst/>
          </a:prstGeom>
          <a:solidFill>
            <a:srgbClr val="fee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inistry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tles of vocational 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358 tit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7240" y="1773360"/>
            <a:ext cx="3024000" cy="1439640"/>
          </a:xfrm>
          <a:prstGeom prst="rect">
            <a:avLst/>
          </a:prstGeom>
          <a:solidFill>
            <a:srgbClr val="fee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ational Board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Verifies the qualifications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expert groups; working life + teach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ppoints qualification committ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valuates the professional standards of educational institu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ons in arranging 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3240" y="2781360"/>
            <a:ext cx="1512720" cy="1152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ational Tr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ommittee (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92520" y="2276640"/>
            <a:ext cx="172872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67040" y="2349360"/>
            <a:ext cx="16542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2680" y="2205000"/>
            <a:ext cx="186984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22680" y="2276640"/>
            <a:ext cx="1295280" cy="144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22680" y="2276640"/>
            <a:ext cx="179856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22680" y="2205000"/>
            <a:ext cx="186984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24160" y="3573360"/>
            <a:ext cx="2808360" cy="1295640"/>
          </a:xfrm>
          <a:prstGeom prst="rect">
            <a:avLst/>
          </a:prstGeom>
          <a:solidFill>
            <a:srgbClr val="21a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Educational Institutions (~35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ducation preparing for CB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rganize competence test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with experts of working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880" y="3357720"/>
            <a:ext cx="2158920" cy="23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Qualification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168 committees, 1240 memb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ntracts with educ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nstitutions which then in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rganise and imp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Quality of 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versees the arrangement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wards qualification certif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7800" y="2276640"/>
            <a:ext cx="2017800" cy="43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22680" y="2205000"/>
            <a:ext cx="158436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47800" y="2205000"/>
            <a:ext cx="201780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22680" y="2205000"/>
            <a:ext cx="1869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761240" y="2852640"/>
            <a:ext cx="43200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7760880" y="2708280"/>
            <a:ext cx="360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722320" y="2924280"/>
            <a:ext cx="194292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7800" y="414972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97600" y="4292640"/>
            <a:ext cx="2449440" cy="1152360"/>
          </a:xfrm>
          <a:prstGeom prst="rect">
            <a:avLst/>
          </a:prstGeom>
          <a:solidFill>
            <a:srgbClr val="21a5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MK-institutions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vocational teacher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raining for Specialist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ompetence-based Qual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07040" y="4292280"/>
            <a:ext cx="790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08160" y="5300640"/>
            <a:ext cx="2665440" cy="100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LVAR-project (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assurance of competence tes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raws up competence tests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(e.g. practical tests) for certain br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656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240160" y="321300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8040" y="228600"/>
            <a:ext cx="7342200" cy="1371600"/>
          </a:xfrm>
          <a:prstGeom prst="rect">
            <a:avLst/>
          </a:prstGeom>
          <a:noFill/>
          <a:ln w="0">
            <a:noFill/>
          </a:ln>
        </p:spPr>
        <p:txBody>
          <a:bodyPr l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5f5f5f"/>
                </a:solidFill>
                <a:latin typeface="Futura Bold"/>
              </a:rPr>
              <a:t>QUALIFICATION STRUCTURE</a:t>
            </a:r>
            <a:endParaRPr b="0" lang="en-US" sz="2400" spc="-1" strike="noStrike">
              <a:solidFill>
                <a:srgbClr val="5f5f5f"/>
              </a:solidFill>
              <a:latin typeface="Futura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42720" y="1961640"/>
            <a:ext cx="7954920" cy="382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98000"/>
          </a:bodyPr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Ministry of Education decides on the qualifications  that are included in the qualification structur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The qualification structure is revised annually according to changes in working life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-284400">
              <a:lnSpc>
                <a:spcPct val="90000"/>
              </a:lnSpc>
              <a:spcBef>
                <a:spcPts val="1500"/>
              </a:spcBef>
              <a:buClr>
                <a:srgbClr val="c0c0c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At present there are 52 vocational qualifications, 187 further vocational qualifications and 128 specialist vocational qualifications in the qualification structure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  <a:p>
            <a:pPr marL="2844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Futura Boo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utura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4:48Z</dcterms:created>
  <dc:creator>Toni Talvenheimo</dc:creator>
  <dc:description/>
  <dc:language>en-US</dc:language>
  <cp:lastModifiedBy>ophmas2</cp:lastModifiedBy>
  <dcterms:modified xsi:type="dcterms:W3CDTF">2003-06-11T09:16:59Z</dcterms:modified>
  <cp:revision>7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1824643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  <property fmtid="{D5CDD505-2E9C-101B-9397-08002B2CF9AE}" pid="6" name="_PreviousAdHocReviewCycleID">
    <vt:r8>2082250989</vt:r8>
  </property>
</Properties>
</file>